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10D-170E-4445-9B91-41587DFD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228-B346-4E42-9E81-893AE00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ECA-34DD-47C5-9FBE-7D19664F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72AC-4849-46C5-9985-16483382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D83-360B-4F2D-B4A8-3F7B90BA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DE7-2B0A-47BA-B6A0-AE2EAA71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2FE-987A-44EF-9698-2D027BFF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889-132E-4896-8A26-CC350614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4F0F-CF01-4A7E-B7DC-3E3D7C0B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0E5-D871-4C66-9521-55219838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FD3-1BF6-46D9-84D2-FB4E07C9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FF5-79DC-42DD-BBFC-3C60638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BB0B-7D7D-414D-88D7-7F17822B22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07960" y="1447920"/>
            <a:ext cx="47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105520"/>
            <a:ext cx="91440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By Mr Moorho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ww.SchoolHistory.co.uk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www.SchoolsHistory.org.u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ensoring newspapers ensures that only the news you want people to read is available to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zi party members wrote many articles for the press, ensuring that the message was always po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ny publications were ban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ing all of the available resources. Explain how the Nazi Party used propaganda to strengthen  their position once in p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5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5050"/>
                </a:solidFill>
                <a:latin typeface="Verdana"/>
              </a:rPr>
              <a:t>See following slide for some advice on what to include in your answ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nswering the Question</a:t>
            </a:r>
            <a:br>
              <a:rPr sz="2000"/>
            </a:br>
            <a:r>
              <a:rPr b="1" lang="en-GB" sz="2000" spc="-1" strike="noStrike">
                <a:solidFill>
                  <a:srgbClr val="ff5050"/>
                </a:solidFill>
                <a:latin typeface="Verdana"/>
              </a:rPr>
              <a:t>Using all of the available resources. Explain how the Nazi Party used propaganda to strengthen  their position once in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description of how each form of media was manipulated will NOT attain a high 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nsure that you make the purpose of propaganda 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 strong answer will recognise that no one method of Propaganda is successful in is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requency of broadcasts and number of public images must be emphas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nalysis of how the combined media onslaught would influence the opinions of ordinary Germans is necessary for a high level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ference to the available source material and some appraisal of it’s purpose and worth will enhance the quality of your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is propagan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nda is the use of the Media to aggressively promote one point of vi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aganda is ‘brainwashing’ of the public, convincing them of an ideological view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C:\WINDOWS\Application Data\Microsoft\Media Catalog\goebbels.jpg"/>
          <p:cNvPicPr/>
          <p:nvPr/>
        </p:nvPicPr>
        <p:blipFill>
          <a:blip r:embed="rId1"/>
          <a:stretch/>
        </p:blipFill>
        <p:spPr>
          <a:xfrm>
            <a:off x="4648320" y="2602080"/>
            <a:ext cx="38098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pairs discuss different ways in which a government could attempt to ‘brainwash’ the population. Make a brief note of your id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nk about what legislation (laws) that a government could introduce to aid their propaganda campai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Nazi’s quickly recognised the value of the media. From the early days of the party they used aggressive advertising to promote the nazi ide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oebbels was in charge of ‘enlightening’ the German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azi Propaganda: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ewspa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Po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ters are cheap and easy to dis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laced in prominent positions they act as a constant reminder of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used for many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C:\WINDOWS\Application Data\Microsoft\Media Catalog\poster_small_waffen-ss.gif"/>
          <p:cNvPicPr/>
          <p:nvPr/>
        </p:nvPicPr>
        <p:blipFill>
          <a:blip r:embed="rId1"/>
          <a:stretch/>
        </p:blipFill>
        <p:spPr>
          <a:xfrm>
            <a:off x="1127160" y="1981080"/>
            <a:ext cx="2925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9907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amples of Nazi Po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3" descr="C:\My Documents\My Webs\weimarandnazigermany\1927.jpg"/>
          <p:cNvPicPr/>
          <p:nvPr/>
        </p:nvPicPr>
        <p:blipFill>
          <a:blip r:embed="rId1"/>
          <a:stretch/>
        </p:blipFill>
        <p:spPr>
          <a:xfrm>
            <a:off x="1295280" y="1600200"/>
            <a:ext cx="2183040" cy="155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C:\My Documents\My Webs\weimarandnazigermany\1920a.jpg"/>
          <p:cNvPicPr/>
          <p:nvPr/>
        </p:nvPicPr>
        <p:blipFill>
          <a:blip r:embed="rId2"/>
          <a:stretch/>
        </p:blipFill>
        <p:spPr>
          <a:xfrm>
            <a:off x="3809880" y="1600200"/>
            <a:ext cx="2062440" cy="154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C:\My Documents\My Webs\weimarandnazigermany\trotz.jpg"/>
          <p:cNvPicPr/>
          <p:nvPr/>
        </p:nvPicPr>
        <p:blipFill>
          <a:blip r:embed="rId3"/>
          <a:stretch/>
        </p:blipFill>
        <p:spPr>
          <a:xfrm>
            <a:off x="1295280" y="3505320"/>
            <a:ext cx="1751040" cy="2438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:\My Documents\My Webs\weimarandnazigermany\dawes.jpg"/>
          <p:cNvPicPr/>
          <p:nvPr/>
        </p:nvPicPr>
        <p:blipFill>
          <a:blip r:embed="rId4"/>
          <a:stretch/>
        </p:blipFill>
        <p:spPr>
          <a:xfrm>
            <a:off x="3886200" y="3581280"/>
            <a:ext cx="1724040" cy="2438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:\My Documents\My Webs\weimarandnazigermany\niemals.jpg"/>
          <p:cNvPicPr/>
          <p:nvPr/>
        </p:nvPicPr>
        <p:blipFill>
          <a:blip r:embed="rId5"/>
          <a:stretch/>
        </p:blipFill>
        <p:spPr>
          <a:xfrm>
            <a:off x="6235560" y="3429000"/>
            <a:ext cx="1746360" cy="2514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My Documents\My Webs\weimarandnazigermany\schluss.jpg"/>
          <p:cNvPicPr/>
          <p:nvPr/>
        </p:nvPicPr>
        <p:blipFill>
          <a:blip r:embed="rId6"/>
          <a:stretch/>
        </p:blipFill>
        <p:spPr>
          <a:xfrm>
            <a:off x="6289560" y="1143000"/>
            <a:ext cx="14097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Ra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tler’s Spee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32004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438280" y="304812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tler is considered to have been one of the greatest public speakers of all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70040" y="838080"/>
            <a:ext cx="15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Fil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685800" y="1523880"/>
            <a:ext cx="7772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m was used to show Hitler in a positive light as often as possi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Nazi’s commissioned several films, each carefully portraying a certain image – try to think what this may have been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1T12:56:27Z</dcterms:created>
  <dc:creator>Dan</dc:creator>
  <dc:description/>
  <dc:language>en-US</dc:language>
  <cp:lastModifiedBy>.</cp:lastModifiedBy>
  <dcterms:modified xsi:type="dcterms:W3CDTF">2010-03-12T08:10:35Z</dcterms:modified>
  <cp:revision>7</cp:revision>
  <dc:subject/>
  <dc:title>Nazi Propaganda</dc:title>
</cp:coreProperties>
</file>